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6360-A09A-4879-947C-42C44F1E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9F9D-9F3E-4057-935D-CF46BA90B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3063-D326-43AA-8B03-FC86BD71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D6E-D449-457F-8EE2-AEA98A1C3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6303-DD61-46D3-BD1C-9BB5F0BF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CA07-AA55-488C-9569-9851B6FA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26D1-85E4-4ACB-B3E7-CDEF4694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7C2-E171-4611-96B3-3320CCAD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EFDE-8562-4107-BB4B-0F41323C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D9F8-C615-4E30-AFC0-098389FED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DE47-3461-4A6A-9524-61919FF7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536B-CA61-4808-A902-05D8F6363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7A344D-1D1C-42B0-A98D-4D844C016C4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2360" cy="11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ond 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icture be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1040" y="3780000"/>
            <a:ext cx="228600" cy="218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benita</dc:creator>
  <dc:description/>
  <dc:language>en-US</dc:language>
  <cp:lastModifiedBy>tbenita</cp:lastModifiedBy>
  <cp:revision>0</cp:revision>
  <dc:subject/>
  <dc:title/>
</cp:coreProperties>
</file>