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AA53-982F-4D26-A730-0ABB9F39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D35FD-89EA-47B1-857D-998C7B282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EE00-CBC3-4622-9CDA-DF7388BDE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2EE5-A8CA-46C7-BB39-8842BE9DE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8700-1D3E-4B48-8B26-027CDF41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0E82-08C3-44E2-9E6D-CC78C0D21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37C0-9E22-4EFA-9E26-0762AABA8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A586-38A1-4226-B910-86CAD081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4B64-3573-46E9-ABA6-28CD4690D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C3C8-AEF7-4A13-9F8A-8989DE6AE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AF3D-59E7-411F-8D8A-E5337EF4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72DA-FF78-4D71-A9BB-42DB3416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2C698-F6AA-4CD0-AF59-8FFAE23C5BC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13:41:16Z</dcterms:created>
  <dc:creator>m l</dc:creator>
  <dc:description/>
  <dc:language>en-US</dc:language>
  <cp:lastModifiedBy>m l</cp:lastModifiedBy>
  <dcterms:modified xsi:type="dcterms:W3CDTF">2013-11-26T13:41:51Z</dcterms:modified>
  <cp:revision>1</cp:revision>
  <dc:subject/>
  <dc:title>title</dc:title>
</cp:coreProperties>
</file>